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B63-16D2-4056-8BDD-1E691C77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89AD-67B2-4419-8E22-F071A661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AAF-79EA-4F52-8E7B-37BF42FB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7E8-9BBC-4C04-B3ED-6AFA2AEC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A70C-57B8-4483-8C26-1E3C6BEA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00FC-F59A-46AF-8420-4B76BAC8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A693-C7D8-4C95-9FC4-2F3925A5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CFC6-1E19-4F8B-81C1-1ADF4F5B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08FF-EE23-4512-B39A-02D011A6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2A19-BED4-4983-B50F-58A27C1F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A021-C9E6-4714-AF08-E3B0A7C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01FC-9AB2-4013-B37B-088FADEA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ED26-FE16-4680-8E0A-D4D8C43A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73B2-5EE2-4440-A577-9D12CFC2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0413-5809-4E89-A908-7CDA361A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B56C-8111-4FEC-AEB1-2266F03C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C6F1-A33E-4DD6-AAC8-931190BB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BABC-A3FB-484F-AF99-C8CE778B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F828-4AE1-4DDC-96F1-9C70FFB8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240-33FF-441D-8524-3C8E545B1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552F-72AB-4F8C-B237-9E2C792A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A2D9-DDCE-41E3-AAD8-7FEC59B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7B9-03E8-4333-AECC-06098D51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2DE-5196-476D-AE59-4E0C36DA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3DCF-62B9-4B12-8A08-D455C448A2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723-BC12-43A6-B294-61F4E07F50B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ternet Safety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ppahannock Elementary Scho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ll 201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How do you or your family use computer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8120" y="1963800"/>
            <a:ext cx="4127760" cy="380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What things can you do on the Web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67440" cy="3848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How can you be safe and responsible on the Web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73440" y="1600200"/>
            <a:ext cx="3597120" cy="45306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What are some bad things you need to watch out for on the Web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895480" cy="221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How can you recognize a friend online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133720" y="2216160"/>
            <a:ext cx="4647960" cy="28893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Comic Sans MS"/>
              </a:rPr>
              <a:t>How do you deal with bullies on the Internet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Comic Sans MS"/>
              </a:rPr>
              <a:t>How can you be safe Onlin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362400" y="203688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6:11:31Z</dcterms:created>
  <dc:creator>Valued Gateway Client</dc:creator>
  <dc:description/>
  <dc:language>en-US</dc:language>
  <cp:lastModifiedBy>Valued Gateway Client</cp:lastModifiedBy>
  <dcterms:modified xsi:type="dcterms:W3CDTF">2010-10-07T18:38:56Z</dcterms:modified>
  <cp:revision>3</cp:revision>
  <dc:subject/>
  <dc:title>Internet Safety</dc:title>
</cp:coreProperties>
</file>